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DE16-3CF7-4C41-9AE8-13D313C0D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06CF-041A-4D96-A9F4-F7FD956D14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C8F0-90D6-4CF3-9C33-A6365D6F7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BD45-26ED-4FCF-9970-2F1408538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013C-7145-4C34-ABCC-CB17C0CCE0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8749-9DE8-4175-AF70-13B9D3B24A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D4F-9B03-40AA-8412-5F6DDA25FD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DAE-2870-4566-8BB2-9C9EB0FF1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B16-34D3-4E6D-816E-F12C3835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E12-F6D0-4651-A293-76E9F016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920-3700-4F95-A839-5A555BE8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172-E8CE-4618-B695-C9694F02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B5B-1D84-4C87-A0BE-0E4A6DA1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4DA-39AB-478C-841C-681BD861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1C9-9F93-448C-BBB9-57C08556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F82-5D4E-4F77-B209-08B51415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C0C-A8D0-4AF9-B4FA-C689CAF9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9A2-DD28-4A83-8736-BC93108A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B9E-0C35-43B8-9587-9434A03F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179-FB55-4576-AAD4-552B054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2DD-CD5D-4C53-ADE8-072D2F16B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609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grative Health Cent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2280" y="3962520"/>
            <a:ext cx="8839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en Burt,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or, CCRMC Integrative Health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, CCRMC Group Medical Vis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ery Program Evalu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able parameters of health and ill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perception of patient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s that are not successful will be terminated after quality improvement measures fa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e with experts in program / service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.g.:   PH - CH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B School of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SF Osher Center for Integrative Medic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288600" y="6094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ample: Peri-n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838080" y="1143000"/>
            <a:ext cx="73850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Serv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ntering Prenatal Groups         Well Baby Groups        WIC  Depression Scree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-800-No Blues Resource Line            Doula Program           Lactation Consul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i-natal Group Peer Support Counseling                   Behavior Health Counsel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fe Course Training – Community Agency / 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90720" y="2819520"/>
            <a:ext cx="7086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Collabo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MC Staff         Healthy Start / WIC         Behavioral Health           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Agencies             Lactation Consult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Health Workers /  Promotoras / Health Condu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945400" y="5181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62120" y="4572000"/>
            <a:ext cx="746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term birth* / Peri-natal depression                            Peri-natal screening /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7 Yale study: 33%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mily Wellbeing /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Down Arrow 9"/>
          <p:cNvSpPr/>
          <p:nvPr/>
        </p:nvSpPr>
        <p:spPr>
          <a:xfrm>
            <a:off x="114300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Up Arrow 7"/>
          <p:cNvSpPr/>
          <p:nvPr/>
        </p:nvSpPr>
        <p:spPr>
          <a:xfrm>
            <a:off x="5562720" y="48006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3124080" y="1522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onents Requi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14400" y="685800"/>
            <a:ext cx="777240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sign and Furnishing                                                      Gr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onnel: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ministrative: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gram Dir                           20/4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Dir                             20/2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Dir               5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 Assist to Dir/Eval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nical Services Mgr     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                                                                        per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linical Staff: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vid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LVN / CM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W /  Adult 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Grant / 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 Care Coordinator      40/8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nsultants: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luation / Train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entiv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=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ready needed  at current volum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Down Arrow 3"/>
          <p:cNvSpPr/>
          <p:nvPr/>
        </p:nvSpPr>
        <p:spPr>
          <a:xfrm>
            <a:off x="6781680" y="2362320"/>
            <a:ext cx="46080" cy="609480"/>
          </a:xfrm>
          <a:prstGeom prst="downArrow">
            <a:avLst>
              <a:gd name="adj1" fmla="val 50000"/>
              <a:gd name="adj2" fmla="val 49232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amily Practice Resource: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, Providers and Healthcare System Benef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tients’ fundamental needs address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ross age spectr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lturally sensitive / linked to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/ chronic pain / obe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ew Productive / Successful Venues for Providers to deliver c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patient collaboration and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teamwork with other divisions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ncreased resour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job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alth Care System Balanced / Costs reduced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 patient self-management skills &amp; self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ng term  decrease in unnecessary acute care ne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st containment / Cost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an Historic Tim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ional Healthcare Reform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nd Exp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ative Health Patient Services Group Medical Vis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alth Educ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16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rvices: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 on Prevention / Self-Manage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 Medical Visi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Education, Wellness and Fitness Clas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lementary and Alternative Medical (CAM)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ive Health Clin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ividual providers and CHW’s for 1:1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havioral Health Servic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SA/ MH        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ining Center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ients          Staff          Outside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ality improv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tegrative and Collabora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:  Holistic approach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Whole Person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 with C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Patients and famil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lf- management = decreased  unnecessary reliance upon acute care fac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in Health Care System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– build upon existing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FM     PH     MH     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other County divisions /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ult Education       EHSD       Parks and  Recre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members and agencies of the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munity Health Workers        Community Agencies      Community Advis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2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c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dicated space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in major Health Centers  for groups, classes, C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centers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C, MTZ, and RHC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No exclusion of  any pop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itive Common Environment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orting the 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art: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isis Intervention/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sease Manageme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ey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438280" y="2514600"/>
            <a:ext cx="4267440" cy="3733920"/>
          </a:xfrm>
          <a:prstGeom prst="flowChartMerg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28600" y="3000240"/>
            <a:ext cx="2514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participate in preventive screening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ease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781680" y="29718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D, Nurse, OT, PT, SW, Admin.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362320" y="1371600"/>
            <a:ext cx="44193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dence Based ?                        Skyrocketing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equal Distribution -  Health Dispar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62120" y="152280"/>
            <a:ext cx="77724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urrent Conventional Medical Paradi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bff"/>
                </a:solidFill>
                <a:latin typeface="Times New Roman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ccebff"/>
                </a:solidFill>
                <a:uFillTx/>
                <a:latin typeface="Times New Roman"/>
              </a:rPr>
              <a:t>Not Sustai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981080" y="62485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ginalize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MH / SA / PH /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ntegrative Health Paradigm</a:t>
            </a:r>
            <a:br>
              <a:rPr sz="2000"/>
            </a:br>
            <a:r>
              <a:rPr b="1" lang="en-US" sz="2000" spc="-1" strike="noStrike" u="sng">
                <a:solidFill>
                  <a:srgbClr val="ccebff"/>
                </a:solidFill>
                <a:uFillTx/>
                <a:latin typeface="Arial"/>
              </a:rPr>
              <a:t>Sustain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286000"/>
            <a:ext cx="198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914400"/>
            <a:ext cx="27432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risis Interventio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iseas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st eff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vidence-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sion of C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486400" y="2971800"/>
            <a:ext cx="3657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llaborative Team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 inclu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W: Link to commun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2895480" y="1981080"/>
            <a:ext cx="2895840" cy="2667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124080" y="2133720"/>
            <a:ext cx="243864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elf  Health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Key: Empowerment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eventive Self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elf –Management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Ill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057400" y="5105520"/>
            <a:ext cx="27432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eep, Pac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xerc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tation/Deep Relaxation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52280" y="3048120"/>
            <a:ext cx="31244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mpowerment of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ust, engagement, 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ally sensi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648320" y="5105520"/>
            <a:ext cx="4267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f-Management /collaborati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motional / Mental Self-C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209680" y="4800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tive Patient Education – Life Skil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191120" y="213372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8600" y="914400"/>
            <a:ext cx="43434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ehavioral Healt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ectrum  of C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sis / Dis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unseling: 1:1 &amp;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ess Manag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/>
          <p:cNvSpPr/>
          <p:nvPr/>
        </p:nvSpPr>
        <p:spPr>
          <a:xfrm>
            <a:off x="3809880" y="30481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Health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581280" y="990720"/>
            <a:ext cx="221004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eak Is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ild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867280" y="13716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rmatio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21932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mpower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09588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M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d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4800600" y="5181480"/>
            <a:ext cx="31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/Collab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581280" y="2895480"/>
            <a:ext cx="2210040" cy="1524240"/>
          </a:xfrm>
          <a:prstGeom prst="ellipse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905120" y="5181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2971800" y="1143000"/>
            <a:ext cx="121932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5105520" y="1143000"/>
            <a:ext cx="99036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5791320" y="2438280"/>
            <a:ext cx="2743200" cy="9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5638680" y="4267080"/>
            <a:ext cx="327672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 flipH="1" flipV="1">
            <a:off x="609120" y="2590920"/>
            <a:ext cx="304812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17"/>
          <p:cNvSpPr/>
          <p:nvPr/>
        </p:nvSpPr>
        <p:spPr>
          <a:xfrm flipH="1">
            <a:off x="380520" y="4191120"/>
            <a:ext cx="3505320" cy="18288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838080" y="3048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2057400" y="152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ission of Integrative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447920" y="2085840"/>
            <a:ext cx="2438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5867280" y="2057400"/>
            <a:ext cx="259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Health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munity Resou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6248520" y="3578400"/>
            <a:ext cx="28191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reliance on phar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eatments/Self-Pract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w to use/How to evalu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334120" y="5638680"/>
            <a:ext cx="22860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ient - Prov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FM  - PH  - SA - M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W -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143000" y="5562720"/>
            <a:ext cx="3733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serv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ultural Sensi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838080" y="3505320"/>
            <a:ext cx="22100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ur staff, public hospitals, community clinics/agenci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s &amp; CAM Integration in HC for Under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4648320" y="4419720"/>
            <a:ext cx="0" cy="243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581280" y="1676520"/>
            <a:ext cx="19051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ve Health Center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1860480"/>
            <a:ext cx="25146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raining Cente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s / CAM 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33920" y="990720"/>
            <a:ext cx="2133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Visits / Clas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019920" y="2209680"/>
            <a:ext cx="29718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H Cli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:1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Peer Suppor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unsel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3753000"/>
            <a:ext cx="25146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Behavioral Health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 and 1:1  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novative /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rap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29000" y="4572000"/>
            <a:ext cx="3276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CAM &amp; Other Service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upun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ssage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iropract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ym Memberships / Pool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733920" y="2895480"/>
            <a:ext cx="1600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 flipV="1" rot="10800000">
            <a:off x="3581280" y="1766880"/>
            <a:ext cx="2286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dult 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76212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. Fer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572000" y="6172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yms / Parks and Re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362320" y="1371600"/>
            <a:ext cx="14475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410080" y="4114800"/>
            <a:ext cx="3124440" cy="19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1980720" y="4267080"/>
            <a:ext cx="167652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 flipH="1" flipV="1">
            <a:off x="456840" y="3352320"/>
            <a:ext cx="304812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3505320" y="2743200"/>
            <a:ext cx="1981080" cy="1828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5257800" y="1371240"/>
            <a:ext cx="1447920" cy="167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5562720" y="36576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 / Senior Peer Counsel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 / Staff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id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046"/>
          <p:cNvSpPr/>
          <p:nvPr/>
        </p:nvSpPr>
        <p:spPr>
          <a:xfrm>
            <a:off x="67816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48"/>
          <p:cNvSpPr/>
          <p:nvPr/>
        </p:nvSpPr>
        <p:spPr>
          <a:xfrm>
            <a:off x="50292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05520" y="5410080"/>
            <a:ext cx="19810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tr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1:13:37Z</dcterms:created>
  <dc:creator>Karen Burt</dc:creator>
  <dc:description/>
  <dc:language>en-US</dc:language>
  <cp:lastModifiedBy>HCMARTINEZ</cp:lastModifiedBy>
  <dcterms:modified xsi:type="dcterms:W3CDTF">2009-07-21T18:37:57Z</dcterms:modified>
  <cp:revision>134</cp:revision>
  <dc:subject/>
  <dc:title>Integrative Health Center Proposal</dc:title>
</cp:coreProperties>
</file>